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F276C-F73D-423E-A58A-CDA1C6661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658040"/>
            <a:ext cx="82296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816D6-CAC0-4D91-A361-53164306F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658040"/>
            <a:ext cx="4015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658040"/>
            <a:ext cx="4015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E04A0-445F-4C8B-9385-ED59FA150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658040"/>
            <a:ext cx="26496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658040"/>
            <a:ext cx="26496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658040"/>
            <a:ext cx="26496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27C8A-3F1B-45C8-A57C-96F0A298E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BBECD-E6C8-43A1-9B0C-DD1C128EE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59049-4865-4C36-80B3-D7CE9410E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11F17-E2EA-43B9-B31A-FA5185E20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A5094-EEE1-43DF-AA70-36FF2C21B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1C8DB-18B2-4CFE-A582-85393F074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D98B1-EBB7-4304-817D-0851BEC17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658040"/>
            <a:ext cx="4015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5C401-FE27-42F6-892B-D13F81150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625FD-EC21-4B60-A14E-1D6A5D102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658040"/>
            <a:ext cx="4015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3A03A-1925-455F-9D36-7D1A5B4B7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658040"/>
            <a:ext cx="82296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9273B-FAB9-4AE9-A10E-A9FA4A6E5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658040"/>
            <a:ext cx="82296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B1FA2-4909-45C7-A329-283C49FD6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658040"/>
            <a:ext cx="4015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658040"/>
            <a:ext cx="4015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490C9-9915-4A22-B084-C4565ACA2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658040"/>
            <a:ext cx="26496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658040"/>
            <a:ext cx="26496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658040"/>
            <a:ext cx="26496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A805B-C19F-445E-8010-BF36CE3FB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20AD0-E19A-4532-B060-FB48E58AC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BA71F-A897-473A-98C4-3FEDA6F4A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4A70C-E2F5-4521-B355-5340055B7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C08DD-4606-4A93-BE29-64A04CE78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658040"/>
            <a:ext cx="4015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37CEB-9868-4AD1-9E39-3F21EE087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658040"/>
            <a:ext cx="4015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A34BB-1D80-4AEC-B4EA-C000B5E10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658040"/>
            <a:ext cx="82296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3767D-1B4E-4694-B0EC-8C9997A09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43F72-119B-4613-89D7-8F6293AA208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1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56206-E9A3-4E94-94D9-6E9AE9E84D7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Chapter 9</a:t>
            </a:r>
            <a:br>
              <a:rPr sz="6000"/>
            </a:br>
            <a:r>
              <a:rPr b="1" lang="en-US" sz="4800" spc="-1" strike="noStrike">
                <a:solidFill>
                  <a:srgbClr val="ffffcc"/>
                </a:solidFill>
                <a:latin typeface="Arial"/>
              </a:rPr>
              <a:t>NATION BUILDING AND NATIONIONALISM</a:t>
            </a:r>
            <a:endParaRPr b="1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merica Past and Pres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Eighth Edi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vin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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reen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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redrickson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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illiams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ross  </a:t>
            </a:r>
            <a:r>
              <a:rPr b="0" lang="en-US" sz="16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ra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633888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2007, Pearson Education, Inc., publishing as Longma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Settlement to the Mississippi:  Settlers Move In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1840, over one-third of U.S. population lived west of the Appalachia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ulators sold land parcels to settlers on cred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uatters and Preemp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41—Congress approved permanent right of preemp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settlers engaged in commercial farm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d to pay off deb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owed them to buy consumer goods they did not produc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The People and Culture of the Frontier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est settled to escape overpopulation, rising land prices, worn-out soi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ttlers brought existing culture with the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yth: self-reliant family farm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ality: cooperation and community effor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ny families moved frequently in Wes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raham Lincoln’s family moved three times between 1816-18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 was less attachment to land than other rural popul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asterners saw West as untam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James Fennimore Cooper’s </a:t>
            </a: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Leatherstocking Ta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A Revolution in Transportation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mitive land transportation in the East was offset by shipping via the coastal waterw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the War of 1812, political leaders recognized the need to improve the country’s transportatio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ional leaders like Madison and Calhoun called for “internal improvement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ual federal role less than anticipated in those calls for internal improv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Roads and Steamboats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ional Road from Cumberland, Maryland, eventually to Vandalia, Illino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urnpikes—privately owned toll roads chartered by st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ads useful for travelers, but too expensive for transportation of bulk go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er most efficient for bulk cargo transpor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Roads and Steamboats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 of rivers encouraged economic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atboats transported downriver in early ti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amboats transported upriver after 18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river capabilities reduced co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amboats catered to passengers with luxury hotel atmosp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amboat accidents stimulated Ante-Bellum Congressional effort to establish safety reg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The Canal Boom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anals needed to link West with coas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rie Canal, 1825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New York Governor Dewitt Clinton got state funding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Canal linked New York City to Great Lakes at Buffalo, through Albany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Canal cut east-west transportation costs dramatically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Canal stimulated commercial growth of New York City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Other states followed until 1840s, when canal deemed unprofitable, but usefu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Emergence of a Market Economy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als cut shipping expenses for western farmers and eastern manufactur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eamboats on the rivers also reduced shipping costs and stimulated commercial agricul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The Beginning of Commercial Agriculture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ap, widely available land and marketing revolution spurred profitable commercial farm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wer transportation costs meant greater income for the farm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le to distant markets involved farmers in a complex system of cred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t stimulated specializ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th produced whe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wer South produced cott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The Beginning of Commercial Agriculture: Rise of King Cotton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d cotton demand from New England textile facto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i Whitney and the cotton g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, fertile land available in old Southw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lavery permitted large-scale ope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Commerce and Banking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38188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Old style farmer sold crop directly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New style farmer sold to local merchant; local merchant sold to final marke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ystem required farmers and local merchants to have credi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Use of credit stimulated banking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ederal government issued too little money, private banks issued bank not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tate banks increased after 1812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1816—Second Bank of the United States created to check state bank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Bank’s easy credit sparked Panic of 1819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Expansion and Migration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erican perspective shifted from Europe to West after 181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ush-Bagot Agreement, 1817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.S. recognized Canada as British; British agreed not to invade U.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glo-American Convention of 181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9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arallel boundary between U.S. and Cana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int occupation of Oreg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inent held in part by the English, Spanish, and Indi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Early Industrialism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ditional methods but innovative financing through “putting out”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tting-out”—merchants delivered raw materials for farm families; artisans processed these materi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d not disrupt agricultural life patter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1815, increased demand stimulated mass prod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xtile industry in New England led development of factory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Early Industrialism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fore rise of textile factories, New England urban economy rested on overseas tra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England politicians made a shift from supporting export-favorable low tariffs to high protective tariff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industries adopted factory model by 1840s and 1850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.S. not yet an industrial country, but was evolving national market econo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The Politics of Nation Building After the War of 1812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a of Good Feelings,” 1816-182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litics a one-party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est groups no longer took differences into the political arena; public interest in politics declin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on theme of public policy in this period: “awakening nationalism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The Republicans in Power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deralists died as national party after 1812, but Republicans adopted some of their idea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nry Clay’s American System, 18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 tariffs to protect industries that sprang up in embargo and w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Bank of the U.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deral aid for internal improv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id for internal improvements controvers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tional conflict over who benefit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dison, Monroe saw constitutional confli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The Election of 1816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rcRect l="0" t="27715" r="0" b="4561"/>
          <a:stretch/>
        </p:blipFill>
        <p:spPr>
          <a:xfrm>
            <a:off x="304920" y="3048120"/>
            <a:ext cx="853416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Monroe as President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dison picked fellow Virginian James Monroe as his successor in 181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roe sought national harmony, an “era of good feeling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ok no action in Panic of 1819, believed president above such mat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d no leadership controversy over Missour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ters accepted Monroe’s view of leadership, he is re-elected in 18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The Election of 1820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rcRect l="0" t="25027" r="0" b="6131"/>
          <a:stretch/>
        </p:blipFill>
        <p:spPr>
          <a:xfrm>
            <a:off x="304920" y="3048120"/>
            <a:ext cx="849636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The Missouri Compromise:  The Issues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817—Missouri applied for statehood as slave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therners believed South over-represented in House of Representatives, despite their own decisive major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llmadge Amendment called for gradual elimination of slavery if Missouri admitted, passes Ho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uth wished to preserve balance of power between slave states and free stat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The Missouri Compromise:  The Solution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ssouri admitted as slave st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ine separated from Massachusetts, admitted as free st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lavery banned elsewhere in Louisiana Purchase above the latitude of 3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0'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ssouri controversy exposed deep rift between North and Sou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fferson called it “a fire bell in the night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The Missouri Compromise, </a:t>
            </a:r>
            <a:br>
              <a:rPr sz="4400"/>
            </a:b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1820-1821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8001000" cy="45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Extending the Boundaries: Taking Spanish Lands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st Florida annexed, 1810-18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retary of State John Quincy Adams’s goal was reduction of Spanish hold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 Seminole War, 181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ndrew Jackson occupied east Florida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akened Spain accepted Adams-Onis Treat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U.S. got all Florida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U.S.-Spanish boundary to Pacific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U.S. paid $5 million in Spanish debts to American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Postwar Nationalism and the Supreme Court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John Marshall Chief Justice, 1801-1835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ost dominant chief justice eve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Liberty and property rights were above attainment of political, social, and economic equality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Role of court to enable economic growth by protecting individuals and businesses from interference by state legislatur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ourt should also provide federal government more power to encourage economic growth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Postwar Nationalism and the Supreme Court: The Key Cases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artmouth College v. Woodward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181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rters granted by states are eternal contra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akens the ability of states to regulate business, allows corporation to have limited public responsi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McCulloch v. Maryland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181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lied powers doctr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es cannot tax or regulate federal agen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wer to tax is power to destro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Gibbons v. Ogden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182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deral regulation of interstate commerce trumps state regu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Postwar Nationalism and the Supreme Court: Summation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mmary of Marshall’s Court 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oadened powers of federal government at the expense of st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couraged growth of a national econom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emplified main nationalist trend of the period: federal government should promote growth of prosperous, nationwide capitalist econo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Nationalism in Foreign Policy:</a:t>
            </a:r>
            <a:br>
              <a:rPr sz="4400"/>
            </a:b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The Monroe Doctrine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.S. sympathized with Latin American revo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.S. recognized independence of Latin American countries after Adams-Onis Treaty approv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nd Alliance” of Europe saw Latin American revolts as democratic challenges to authoritarianis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nd Alliance pushed Spain to re-claim colon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at Britain wanted independent Latin American countries with open mark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Nationalism in Foreign Policy: Monroe Doctrine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ritain asked U.S. to cooperate to oppose Grand Alliance schemes for Latin Americ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onroe persuaded by John Quincy Adams that U.S. alone must protect Latin American independe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onroe Doctrine, 1823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.S. opposed European expansion to the Western Hemisphe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.S. would not interfere in European affai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argely dismissed by Europea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gnified America’s new sense of independence and self-confidence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Extending the Boundaries: 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The Oregon Country 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hn Jacob Astor and the American Fur Company in Oregon and St. Lou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untain men” like Kit Carson and Jim Beckwourth roamed through Plains and Rockies, fueling romantic myth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litary expeditions created impression that Plains were “great American desert” unfit for settlem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North America, 1819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057400" y="1447920"/>
            <a:ext cx="49212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Native American Societies Under Pressure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ve Civilized Tribes” (60,000 strong) controlled much of Sou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rokee, Chickasaw, Choctaw, Creek, and Semino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opted many ways of American pop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pite adapting, Native Americans seen as obstacles to settl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t Native American groups reacted differently to white encroach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Native American Societies Under Pressure: The Cherokee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rokee largest of “Five Civilized Tribe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hn Ross led move to accommodate Americ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rokee became market economy farmers and plantation ow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lavery and discrimination against African Americans resulted from thi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opted Constitution of Republican government in 182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quoyah created alphabet for Cherokee language, 1821-2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Native American Societies Under Pressure: The Seminole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minole smallest of “Five Civilized Tribe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minole a combination of Florida natives with Creeks and escaped sla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minole slavery was more payment of tribute than ownership of hum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Seminole War was example of Seminole resis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75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War described as “a negro and not an Indian war”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Native American Societies Under Pressure: Indian Removal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deral government used deception, threats, and bribery to get Native Americans to cede l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e governments claimed jurisdiction over lands given to Native Americans by trea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ack Hawk’s War (1831-32) was last stand of Native Americans north of Ohio River and east of Mississippi Ri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1830s, idea that Native Americans should be moved West even if they assimilated was dominant 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20:06:59Z</dcterms:created>
  <dc:creator>CMU</dc:creator>
  <dc:description/>
  <cp:keywords/>
  <dc:language>en-US</dc:language>
  <cp:lastModifiedBy>Barbara Witmer</cp:lastModifiedBy>
  <cp:lastPrinted>2009-09-06T19:32:19Z</cp:lastPrinted>
  <dcterms:modified xsi:type="dcterms:W3CDTF">2007-02-01T19:44:23Z</dcterms:modified>
  <cp:revision>38</cp:revision>
  <dc:subject/>
  <dc:title>CHAPTER 9 NATIONALISM AND NATION BUILDING</dc:title>
</cp:coreProperties>
</file>